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C3F-0273-4DAE-B4EE-A19A5AB5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5E3-375A-4E82-AC88-AB57111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948-CEB1-46F7-9039-F5C32E33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2D4-ED68-4D0C-9D6E-3E437A9D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250D-EB2F-4662-93E9-1CC877C2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D655-BD85-4B66-A790-71AF9F7D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0E4E-C8F0-481E-956C-421773A4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8E4E-1E84-4863-9FDB-4FC62CC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386E-B85C-47C5-98FE-9FE09DF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D3E-FFD7-4C75-9FE1-1D27B03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8C28-3DE1-488E-B342-D5A1872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028-2741-4836-A673-8062A3F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CCC-DFF0-4EB8-9B31-49DE9B2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C148-E800-4C21-B8C1-98191517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663-1A01-4575-876A-2C2083F7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35A-DFFC-4A85-B6E2-E6CD3E83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3565-CA7B-4671-B3A2-A00FDD52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5A5B-D54D-4205-BAE4-743FAEB9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6A34-3E04-4640-8426-D0963D16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E973-53CC-4671-9450-573AE48D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40AE-1D2B-45B6-B651-91FF174B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11E2-D7E2-4A9C-AC5B-54301C6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826-4B1E-4C58-8A76-33F9268D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D338-774A-4084-91B2-950908A2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D403-8917-4F1A-95BD-AA0562E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D7F6-2334-442D-951C-37AB718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4375-DED2-483F-9FCA-F1C98DA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72B74-E883-497A-8E64-9AE3288C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1B60-6DE0-46A6-95FF-601D44E5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6FF7-F286-4209-8A94-AE982431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B4E7-A8A3-4C5E-8E7C-D015C480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AB36-B6A4-410C-B61F-91010CA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DE80-0F48-41E4-B1B0-C4923D7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880-C859-4502-8D29-6F414D0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90CD-140A-449C-8AF1-9ED191E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C6EF-6DE2-4723-9837-F8BDB9B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1E44-0EAB-4164-922D-BFEC3991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179B-59FE-4222-8F6E-0C86F7B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4769-8D0D-41F5-B824-86CA8EA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4741-3E19-4405-A15F-D2FFD57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7373-3FF8-4E2D-9599-A8E85659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695F-DE85-449A-AB81-F042E0DC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7B12-73BF-4271-8D48-BF4956DC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CDE5-EC65-4971-9790-F4892875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8E1-8B37-472A-B168-04BBF8F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D461-E139-4868-BF69-CF6A4FA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E418-3CB1-4BCC-BC9F-C64F14E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AE74-058D-4AF1-A8F2-E460AADD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DE15-6406-493E-AB86-C5D8EEC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D0049-F8EA-4016-8BEE-988E45A3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7067-011E-46A5-B5C6-E2CF76B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5B9B-748F-429B-B90C-6C20560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D5D7-BFD4-4AFD-83E6-A0ACE1C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511E-00EF-4B45-BF8C-027E8B5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2C68-719A-45A7-B297-81688B27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E4D-8D66-4875-A64D-4B6E059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8E42-637A-4FEE-88A4-97C2AB2B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08AA-26F0-40A3-85BD-0391326E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BD6F7-56A8-4DC8-80BF-B5F402E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3F3B-BA41-4A35-9C34-996E0773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2AB0-1900-4A3C-8264-E230C942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AC4D9-58C1-4FA0-A9B8-C91EDD1A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4DBE-B068-46BB-B146-12CA510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162A-352E-495E-A627-E345AC3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CFAF-EBDB-4263-A96D-E2B1833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E7F9-FE0D-4340-9A6E-8CEC3F2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02B-1865-47F7-BCCE-D8F8E25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CE99-EA3D-4754-AC97-5963313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09F5-F3C2-400A-B6DE-6A74AE3A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DFEC-D0FC-4BF5-AAB4-5BBC2ED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025EA-09D6-424F-94EC-0A7514A1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0F60-D0BE-4254-B598-C62E8E23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7C34-B441-4F29-93A5-3DDBC41D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465CB-B24F-47B3-90F6-C0DA818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AAD3-0F98-4F5F-A233-B6D55600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D816-8DBD-4B43-AF12-71F1334E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094B-C8A6-4949-8680-11A42CC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1E3-BA67-4685-9403-D85CDE7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1DBA-CEDD-4860-A274-EFD8D1C0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986E-65F5-4AA4-9190-221F62A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878E-71FB-4E3A-8C9D-946F2F60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8CBB-204D-4979-9896-DE52C4E9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BC8F1-5A1D-4133-9E4A-00D1B588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D45EF-629D-446E-B54D-A213B9EA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81D4-F60B-4ECF-B843-D605931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6FE7D-965A-4D58-A066-03486A8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DE85-B1E2-4437-B085-CC9A4C91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121C9-BCE9-42CE-86E0-5D8E3F3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467-675F-4342-92A0-3D8D45A9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C4EB-F709-415E-A9F9-5CF446B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27347-CF41-4299-9162-00950A5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D1B64-8C94-46F6-B3A7-A139CDE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80AD-1012-4A7D-B458-9BFEB4F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56F2-8FB6-49FB-8EB7-57BDF987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DF8C-1CA2-463B-825E-CFED096F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94DC-4ED9-4DD1-B40A-5F7D0879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FD66-050C-4A96-BAF4-74BCBAB6DD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2305-81E0-4E3D-90C5-4AC4F95B6C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11" name="Нашивка 15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12" name="Нашивка 15" descr=""/>
            <p:cNvPicPr/>
            <p:nvPr/>
          </p:nvPicPr>
          <p:blipFill>
            <a:blip r:embed="rId6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EAA-9CD6-4324-B798-9AE50566D5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9F7F-ABD4-4E49-847F-88D3A4396B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C97-DB91-439E-9A0E-1E7B1DDBED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FA68-1BBC-44C7-9194-A35717C558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640-C347-4827-802E-B862D52159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9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2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4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55" name="Нашивка 19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356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58" name="Нашивка 20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359" name="Нашивка 20" descr=""/>
            <p:cNvPicPr/>
            <p:nvPr/>
          </p:nvPicPr>
          <p:blipFill>
            <a:blip r:embed="rId8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6FE0-7ABF-412B-9EC6-FACFDFCC93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590400" y="2193840"/>
            <a:ext cx="8382240" cy="22449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133.jpg"/>
          <p:cNvPicPr/>
          <p:nvPr/>
        </p:nvPicPr>
        <p:blipFill>
          <a:blip r:embed="rId2"/>
          <a:stretch/>
        </p:blipFill>
        <p:spPr>
          <a:xfrm>
            <a:off x="-30240" y="-103320"/>
            <a:ext cx="299268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Что такое «десятичные дроб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складыв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вычит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Важность данной темы  в нашей жизн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Отличать десятичные дроби от обыкновенных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Складыв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Вычит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888.jpg"/>
          <p:cNvPicPr/>
          <p:nvPr/>
        </p:nvPicPr>
        <p:blipFill>
          <a:blip r:embed="rId1"/>
          <a:stretch/>
        </p:blipFill>
        <p:spPr>
          <a:xfrm>
            <a:off x="115920" y="-23760"/>
            <a:ext cx="2975040" cy="3267000"/>
          </a:xfrm>
          <a:prstGeom prst="rect">
            <a:avLst/>
          </a:prstGeom>
          <a:ln w="0">
            <a:noFill/>
          </a:ln>
        </p:spPr>
      </p:pic>
      <p:pic>
        <p:nvPicPr>
          <p:cNvPr id="409" name="Заголовок 2" descr=""/>
          <p:cNvPicPr/>
          <p:nvPr/>
        </p:nvPicPr>
        <p:blipFill>
          <a:blip r:embed="rId2"/>
          <a:stretch/>
        </p:blipFill>
        <p:spPr>
          <a:xfrm>
            <a:off x="2664000" y="493560"/>
            <a:ext cx="6211800" cy="11592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5" descr=""/>
          <p:cNvPicPr/>
          <p:nvPr/>
        </p:nvPicPr>
        <p:blipFill>
          <a:blip r:embed="rId3"/>
          <a:stretch/>
        </p:blipFill>
        <p:spPr>
          <a:xfrm>
            <a:off x="731880" y="3164040"/>
            <a:ext cx="79912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3" descr="2.jpg"/>
          <p:cNvPicPr/>
          <p:nvPr/>
        </p:nvPicPr>
        <p:blipFill>
          <a:blip r:embed="rId1"/>
          <a:stretch/>
        </p:blipFill>
        <p:spPr>
          <a:xfrm>
            <a:off x="-23760" y="-23760"/>
            <a:ext cx="2419200" cy="379080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2" descr=""/>
          <p:cNvPicPr/>
          <p:nvPr/>
        </p:nvPicPr>
        <p:blipFill>
          <a:blip r:embed="rId2"/>
          <a:stretch/>
        </p:blipFill>
        <p:spPr>
          <a:xfrm>
            <a:off x="2919240" y="122400"/>
            <a:ext cx="6035760" cy="134136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787840" y="142884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0,56+0,19=0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2850480" y="1928880"/>
            <a:ext cx="372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,29+2,46=3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12,125+1,3=113,42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23,55+0,001=23,55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5+0,56=5,5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285840" y="4143240"/>
            <a:ext cx="8072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Чтобы сложить десятичные дроби нужно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ятой. Выполнить сложение, не обращая внимания на запятую, поставит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3" descr="OKSVAdrobi2-1.jpg"/>
          <p:cNvPicPr/>
          <p:nvPr/>
        </p:nvPicPr>
        <p:blipFill>
          <a:blip r:embed="rId1"/>
          <a:stretch/>
        </p:blipFill>
        <p:spPr>
          <a:xfrm>
            <a:off x="4827600" y="585720"/>
            <a:ext cx="4365720" cy="2144880"/>
          </a:xfrm>
          <a:prstGeom prst="rect">
            <a:avLst/>
          </a:prstGeom>
          <a:ln w="0">
            <a:noFill/>
          </a:ln>
        </p:spPr>
      </p:pic>
      <p:pic>
        <p:nvPicPr>
          <p:cNvPr id="417" name="Заголовок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4486320" cy="1908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1379880" y="2714760"/>
            <a:ext cx="41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5,2-0,2=4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0,56-0,23=0,3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6,1-0,55=5,5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2,006-23,05=18,95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-322920" y="4714920"/>
            <a:ext cx="973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Чтобы вычесть десятичные дроби нужно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ятой. Выполнить вычитание, не обращая внимания на запятую, постави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7:25:31Z</dcterms:created>
  <dc:creator>Ольга</dc:creator>
  <dc:description/>
  <dc:language>en-US</dc:language>
  <cp:lastModifiedBy>26054</cp:lastModifiedBy>
  <dcterms:modified xsi:type="dcterms:W3CDTF">2010-05-31T11:10:02Z</dcterms:modified>
  <cp:revision>7</cp:revision>
  <dc:subject/>
  <dc:title>Сложение и вычитание  десятичных дробей</dc:title>
</cp:coreProperties>
</file>